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BEE7-4A64-4F8A-A930-CD296F9E3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D366-BFB5-403D-BB96-E118EE97C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EC04-5DA1-41D8-ADA9-28BE8BFD83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7068-E900-4D17-A569-2C7451106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C892-53C9-4017-AEE3-33CC6E64B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F7D9-05B9-4770-A882-04D228313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4EAF-7976-4B3C-9B2E-D6FE685D62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202C-4F44-4445-9DB0-136AECA11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00C7-5415-433E-BC07-C19E32FCD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3930-9B2B-46F0-8A7C-FD6A56B2A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9BF2-C9B6-4394-A320-A4562EB022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1848-AC70-463F-B39A-FB1D0118D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1A9E-4E38-42C3-8996-6BE7BB9C0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1E1E-84A0-45AB-8B11-1A14EC8C69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1B7A-B8A9-4FC0-9425-24135E1FCE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94A5-F47E-4517-B436-2F578F0237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BF19-C647-47D5-973F-C4F53ACFA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221A-58EA-4681-B941-BFDA7BACB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C5CD-EC6C-4634-9B1A-5F568A604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89E3-0045-4264-B377-5F255455F1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A111-4861-4A8F-950B-76D54B5C1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B236-6522-4121-A342-B1B0A3B82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F4C0-9E87-425B-B907-A1A1361E7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E3DC-DD9C-4680-A704-661AA836B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1DBA-DA2D-4EFE-BF4F-2EF9C3DC9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F54D-70AE-4A93-93D1-A13016D24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8879-20BA-47B0-A0DC-BADBAEF223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1120-7CF9-422C-8F94-9F348A7671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DFB0-8FF8-442B-B04A-31FDA392E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0DC2-2886-4473-8217-B65DE878FB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36BE-F729-495E-9BB7-2B2DCDA8AA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55C8-126D-4296-82B4-9758C4337B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6DAA-956B-485F-BFB5-E0E5057907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9FEB-1F29-4560-90D5-19760D349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0F94-02C4-4085-9DDA-9B8B8BE0D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16DE-5D60-4DBE-87CA-337CFE5ADA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47A3-D1FF-4EA5-B2CB-73480488F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7DB5-6DB3-42EF-A62C-746EFBB45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38E7-7E53-46E9-B751-71A5459738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083F-EDB3-46DB-9135-4C8852F02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BCE2-8EF2-4FAA-A689-317CC2FA6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8CDC-3572-48D3-8824-07BE81A40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B7D4-87A2-4566-81F6-C69805042B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5E1E-4F43-4669-8E9E-CB1662D9D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1F52-764C-45D0-BB0F-3DE83416A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19A5-E72B-4094-9955-04356E50DA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A08C-D76F-49ED-9857-B326562F5A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46F5-199C-4976-A255-778809A4F9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40FD-E8CE-4D2C-9DE1-9B1B4242A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055D-6F54-41F9-B463-81FA0774FE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841C-4948-4EA1-BD06-0EC13F2904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83B-F900-44E5-89B7-4A234295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5C5-1272-4FED-86F3-9EBDD821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477-72FA-4B2A-8C00-5E8F88C8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780-5346-4BD1-821C-91993037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E97-4218-4826-AD54-2990F562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D66-1404-46B3-A7C5-46875112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CD2-1AAD-412F-9162-3DDBA2D1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989-74F8-45A4-9940-A49819E4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209-CD00-4197-B5DA-9995FC74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412-D285-48A6-81D6-B0161609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301-E82F-43AF-B85F-23D0FE8E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AB8-CCB4-4992-9129-886B4953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8038-26A5-463A-A588-9678F06324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cp:lastPrinted>2020-12-02T13:53:05Z</cp:lastPrinted>
  <dcterms:modified xsi:type="dcterms:W3CDTF">2020-12-03T06:27:00Z</dcterms:modified>
  <cp:revision>378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